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862-DC71-47A6-9D7E-E1D64467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02C-0F86-47E1-B08D-13F5905B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FCB-CEF4-4B53-BEE6-2C7419B2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7D4-5AD6-4566-825A-8E8F53D7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84B-189E-4569-88BD-63A590D2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E5B-4438-431E-B837-793F4CBF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A92-9361-4DDE-9362-43FDC330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749-202C-4A38-924E-7E6AC5B3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6EF-DB89-491B-823C-2E0B90C9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291-274F-4614-B57D-51F11324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91C-A699-4197-AA6F-B0D5E02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AE2-8C89-42B0-A13F-00213566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94FF-E57D-4FE1-85B4-6556EE8BA5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4C52-5856-4CFD-B7A2-0927EAA2F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6"/>
          <p:cNvGrpSpPr/>
          <p:nvPr/>
        </p:nvGrpSpPr>
        <p:grpSpPr>
          <a:xfrm>
            <a:off x="88920" y="189000"/>
            <a:ext cx="9055080" cy="1966320"/>
            <a:chOff x="88920" y="189000"/>
            <a:chExt cx="9055080" cy="1966320"/>
          </a:xfrm>
        </p:grpSpPr>
        <p:sp>
          <p:nvSpPr>
            <p:cNvPr id="42" name="Rectangle 37"/>
            <p:cNvSpPr/>
            <p:nvPr/>
          </p:nvSpPr>
          <p:spPr>
            <a:xfrm>
              <a:off x="104400" y="1349640"/>
              <a:ext cx="9027000" cy="907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" name="Rectangle 38"/>
            <p:cNvGrpSpPr/>
            <p:nvPr/>
          </p:nvGrpSpPr>
          <p:grpSpPr>
            <a:xfrm>
              <a:off x="88920" y="1505520"/>
              <a:ext cx="9055080" cy="290160"/>
              <a:chOff x="88920" y="1505520"/>
              <a:chExt cx="9055080" cy="290160"/>
            </a:xfrm>
          </p:grpSpPr>
          <p:pic>
            <p:nvPicPr>
              <p:cNvPr id="44" name="Rectangle 38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20" y="1505520"/>
                <a:ext cx="9055080" cy="2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104400" y="1522440"/>
                <a:ext cx="902736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Rectangle 39"/>
            <p:cNvGrpSpPr/>
            <p:nvPr/>
          </p:nvGrpSpPr>
          <p:grpSpPr>
            <a:xfrm>
              <a:off x="88920" y="1422000"/>
              <a:ext cx="9055080" cy="154080"/>
              <a:chOff x="88920" y="1422000"/>
              <a:chExt cx="9055080" cy="154080"/>
            </a:xfrm>
          </p:grpSpPr>
          <p:pic>
            <p:nvPicPr>
              <p:cNvPr id="47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88920" y="1422000"/>
                <a:ext cx="9055080" cy="15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104400" y="1433880"/>
                <a:ext cx="90273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9" name="Text Box 40" descr=""/>
            <p:cNvPicPr/>
            <p:nvPr/>
          </p:nvPicPr>
          <p:blipFill>
            <a:blip r:embed="rId3"/>
            <a:stretch/>
          </p:blipFill>
          <p:spPr>
            <a:xfrm>
              <a:off x="525960" y="189000"/>
              <a:ext cx="82166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1" descr="fsetan_emblema2007"/>
            <p:cNvPicPr/>
            <p:nvPr/>
          </p:nvPicPr>
          <p:blipFill>
            <a:blip r:embed="rId4"/>
            <a:stretch/>
          </p:blipFill>
          <p:spPr>
            <a:xfrm>
              <a:off x="104400" y="999360"/>
              <a:ext cx="1043640" cy="115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Line 2"/>
          <p:cNvGrpSpPr/>
          <p:nvPr/>
        </p:nvGrpSpPr>
        <p:grpSpPr>
          <a:xfrm>
            <a:off x="414360" y="4133880"/>
            <a:ext cx="8491680" cy="66600"/>
            <a:chOff x="414360" y="4133880"/>
            <a:chExt cx="8491680" cy="66600"/>
          </a:xfrm>
        </p:grpSpPr>
        <p:pic>
          <p:nvPicPr>
            <p:cNvPr id="52" name="Line 2" descr=""/>
            <p:cNvPicPr/>
            <p:nvPr/>
          </p:nvPicPr>
          <p:blipFill>
            <a:blip r:embed="rId5"/>
            <a:stretch/>
          </p:blipFill>
          <p:spPr>
            <a:xfrm>
              <a:off x="414360" y="4133880"/>
              <a:ext cx="849168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10800000">
              <a:off x="428400" y="4167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Rectangle 2"/>
          <p:cNvSpPr/>
          <p:nvPr/>
        </p:nvSpPr>
        <p:spPr>
          <a:xfrm>
            <a:off x="295200" y="2155680"/>
            <a:ext cx="863460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УБЛИЧНЫЕ СЛУШАНИЯ  НА ТЕМ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Результаты применения правоприменительной практики контрольно-надзорной деятельности Приокского управления Ростехнадзора, в том числе при проведении оценки готовности к осенне-зимнему периоду муниципальных образований, субъектов электроэнергетики, теплоснабжающих и теплосетевых организаций по итогам 2022 го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ext Box 4" descr=""/>
          <p:cNvPicPr/>
          <p:nvPr/>
        </p:nvPicPr>
        <p:blipFill>
          <a:blip r:embed="rId6"/>
          <a:stretch/>
        </p:blipFill>
        <p:spPr>
          <a:xfrm>
            <a:off x="304920" y="5919840"/>
            <a:ext cx="8534160" cy="766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434880" y="4869000"/>
            <a:ext cx="86407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Доклад Руководителя упра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Челенко Василия Георгиевич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435C-9509-43AA-BFF4-06BD818E23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142920"/>
            <a:ext cx="80438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сновные проблемные вопросы, выявленные в ходе подготовки к ОЗП 2022-2023 годов на предприятиях в сфере теплоснабже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560" y="128556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ый объем планирования и невыполнение планов капитального ремонта замены тепловых сетей, отработавших срок службы (критическое коррозионное состояние ветхих сетей приводит к постоянным разрывам и утечкам на трассах, потери тепла в сетях при этом достигают 30%, так как тепловая изоляция на многих участках повреждена из-за периодического или постоянного затопления или просто в силу большого возраста сет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 теплоснабжающих организациях теплоэнергетического оборудования, зданий и сооружений с истекшими сроками службы, эксплуатация которых, без проведения организационно-технических мероприятий по продлению срока службы (экспертиз промышленной безопасности), не допускает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ответствие требуемой категории надежности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лектроснабжению котельных (не ниж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беспечивающих теплоснабжение населения и социальной сф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096F-DC73-43E7-A8CB-19F139356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Line 2"/>
          <p:cNvGrpSpPr/>
          <p:nvPr/>
        </p:nvGrpSpPr>
        <p:grpSpPr>
          <a:xfrm>
            <a:off x="-19080" y="1176480"/>
            <a:ext cx="9175680" cy="66600"/>
            <a:chOff x="-19080" y="1176480"/>
            <a:chExt cx="9175680" cy="66600"/>
          </a:xfrm>
        </p:grpSpPr>
        <p:pic>
          <p:nvPicPr>
            <p:cNvPr id="98" name="Line 2" descr=""/>
            <p:cNvPicPr/>
            <p:nvPr/>
          </p:nvPicPr>
          <p:blipFill>
            <a:blip r:embed="rId1"/>
            <a:stretch/>
          </p:blipFill>
          <p:spPr>
            <a:xfrm>
              <a:off x="-19080" y="1176480"/>
              <a:ext cx="917568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0800000">
              <a:off x="0" y="1209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3E73-B867-4BE2-9687-9E5E06E4F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Line 2"/>
          <p:cNvGrpSpPr/>
          <p:nvPr/>
        </p:nvGrpSpPr>
        <p:grpSpPr>
          <a:xfrm>
            <a:off x="-19080" y="1352520"/>
            <a:ext cx="9175680" cy="68400"/>
            <a:chOff x="-19080" y="1352520"/>
            <a:chExt cx="9175680" cy="68400"/>
          </a:xfrm>
        </p:grpSpPr>
        <p:pic>
          <p:nvPicPr>
            <p:cNvPr id="102" name="Line 2" descr=""/>
            <p:cNvPicPr/>
            <p:nvPr/>
          </p:nvPicPr>
          <p:blipFill>
            <a:blip r:embed="rId1"/>
            <a:stretch/>
          </p:blipFill>
          <p:spPr>
            <a:xfrm>
              <a:off x="-19080" y="1352520"/>
              <a:ext cx="917568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rot="10800000">
              <a:off x="0" y="1385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600" y="66240"/>
            <a:ext cx="8002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Показатели по замене тепловых сетей в период 2018-2022 гг.</a:t>
            </a:r>
            <a:br>
              <a:rPr sz="2000"/>
            </a:b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на подконтрольных Приокскому управлению Ростехнадзора </a:t>
            </a:r>
            <a:br>
              <a:rPr sz="1200"/>
            </a:b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Тульской, Брянской, Орловской, Калужской и Рязанской обла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73200" y="1557360"/>
          <a:ext cx="7993080" cy="4896000"/>
        </p:xfrm>
        <a:graphic>
          <a:graphicData uri="http://schemas.openxmlformats.org/drawingml/2006/table">
            <a:tbl>
              <a:tblPr/>
              <a:tblGrid>
                <a:gridCol w="1836720"/>
                <a:gridCol w="1041480"/>
                <a:gridCol w="1104840"/>
                <a:gridCol w="627120"/>
                <a:gridCol w="625320"/>
                <a:gridCol w="625320"/>
                <a:gridCol w="627120"/>
                <a:gridCol w="625680"/>
                <a:gridCol w="879480"/>
              </a:tblGrid>
              <a:tr h="600120"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ниципаль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ая протяженность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/ сетей на 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к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тяженность тепловых сетей отработавших нормативный срок службы на 2018 г.(к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gridSpan="5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ъем замены тепловых сетей (к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ъем замена за период  2018-2022гг.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0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0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уль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9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4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3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3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9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2416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ря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44,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6,3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,3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432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,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,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,3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2,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756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лов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9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7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0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,8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0328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луж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37,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6,1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,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4,7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756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яза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78,8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7,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6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,4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,4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,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112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9,8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1436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окское у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00,4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20,2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2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9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8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2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2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17,6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93C7-DDD8-4F9B-986C-4939B1777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Line 2"/>
          <p:cNvGrpSpPr/>
          <p:nvPr/>
        </p:nvGrpSpPr>
        <p:grpSpPr>
          <a:xfrm>
            <a:off x="-19080" y="1352520"/>
            <a:ext cx="9175680" cy="68400"/>
            <a:chOff x="-19080" y="1352520"/>
            <a:chExt cx="9175680" cy="68400"/>
          </a:xfrm>
        </p:grpSpPr>
        <p:pic>
          <p:nvPicPr>
            <p:cNvPr id="108" name="Line 2" descr=""/>
            <p:cNvPicPr/>
            <p:nvPr/>
          </p:nvPicPr>
          <p:blipFill>
            <a:blip r:embed="rId1"/>
            <a:stretch/>
          </p:blipFill>
          <p:spPr>
            <a:xfrm>
              <a:off x="-19080" y="1352520"/>
              <a:ext cx="917568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0800000">
              <a:off x="0" y="1385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6200" y="306000"/>
            <a:ext cx="83552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ы замены тепловых сетей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одконтрольных Приокскому управлению Ростехнадзора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ульской, Брянской, Орловской, Калужской и Рязанской областях на период 2023-202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73200" y="1557360"/>
          <a:ext cx="7993080" cy="4896000"/>
        </p:xfrm>
        <a:graphic>
          <a:graphicData uri="http://schemas.openxmlformats.org/drawingml/2006/table">
            <a:tbl>
              <a:tblPr/>
              <a:tblGrid>
                <a:gridCol w="1836720"/>
                <a:gridCol w="1041480"/>
                <a:gridCol w="1104840"/>
                <a:gridCol w="627120"/>
                <a:gridCol w="625320"/>
                <a:gridCol w="625320"/>
                <a:gridCol w="627120"/>
                <a:gridCol w="625680"/>
                <a:gridCol w="879480"/>
              </a:tblGrid>
              <a:tr h="600120"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Муниципаль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бщая протяженность т/ с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(к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ротяженность тепловых сетей отработавших нормативный срок службы (к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gridSpan="5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лан замены в соответствии с принятой программой (к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жидаемая замена за период  2023-2027гг.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0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0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0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уль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96,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3,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,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,2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,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,8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8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2416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ря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77,9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5,7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,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,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,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2,2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756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лов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9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,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0328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луж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7,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6,0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,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,8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3,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756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язан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78,8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2,6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,3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,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1436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окское у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49,6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64,1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0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4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9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,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2,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ю о количестве котельных, у которы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обеспечена требуемая категория надежности электроснаб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26920" y="1484280"/>
          <a:ext cx="7561440" cy="4608720"/>
        </p:xfrm>
        <a:graphic>
          <a:graphicData uri="http://schemas.openxmlformats.org/drawingml/2006/table">
            <a:tbl>
              <a:tblPr/>
              <a:tblGrid>
                <a:gridCol w="432000"/>
                <a:gridCol w="3046320"/>
                <a:gridCol w="1524240"/>
                <a:gridCol w="2558880"/>
              </a:tblGrid>
              <a:tr h="169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котель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котельных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которых категория надежности электроснабжения не соответствует НТ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48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ль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янская 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л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уж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язан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окское упра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362C-5D1F-4BD1-AE14-28CF77B20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ю о возникновении нарушений теплоснабжения потребителей тепловой энергии в ОЗП (за 3 года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результате нарушения электроснаб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00000" y="1557360"/>
          <a:ext cx="7559640" cy="4651200"/>
        </p:xfrm>
        <a:graphic>
          <a:graphicData uri="http://schemas.openxmlformats.org/drawingml/2006/table">
            <a:tbl>
              <a:tblPr/>
              <a:tblGrid>
                <a:gridCol w="1643040"/>
                <a:gridCol w="1971720"/>
                <a:gridCol w="1973520"/>
                <a:gridCol w="1971360"/>
              </a:tblGrid>
              <a:tr h="2012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бъект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ушение теплоснабжения потребителей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результате нарушения электроснаб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-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-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8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уль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9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рянская 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8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л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луж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9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яза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к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7BF0-19F3-4401-A0FA-324CE60F7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личество внеплановых отключений и ограничений теплоснабжения потребителей, вызванных технологическими нарушениям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тепловых сетях и на источниках тепловой энер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го:                                                        425 шт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ход оборудования из строя           48 шт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кращение электроснабжения     141 шт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кращение водоснабжения           26 шт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ыв тепловых сетей;                         195 шт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                                                       15  ш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арийные ситуации, приведших к разрушению или повреждению сооружений и оборудования объектов, которое привело к выходу из строя источников тепловой энергии или тепловых сетей на срок 24 часа и более в отопительный период 2022-2023 годов не зафиксирова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6CF8-B048-4AF0-ADAE-EE7AEB14E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B20B-6080-4612-8A91-86782C2AD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Line 2"/>
          <p:cNvGrpSpPr/>
          <p:nvPr/>
        </p:nvGrpSpPr>
        <p:grpSpPr>
          <a:xfrm>
            <a:off x="-19080" y="1500120"/>
            <a:ext cx="9175680" cy="66600"/>
            <a:chOff x="-19080" y="1500120"/>
            <a:chExt cx="9175680" cy="66600"/>
          </a:xfrm>
        </p:grpSpPr>
        <p:pic>
          <p:nvPicPr>
            <p:cNvPr id="123" name="Line 2" descr=""/>
            <p:cNvPicPr/>
            <p:nvPr/>
          </p:nvPicPr>
          <p:blipFill>
            <a:blip r:embed="rId1"/>
            <a:stretch/>
          </p:blipFill>
          <p:spPr>
            <a:xfrm>
              <a:off x="-19080" y="1500120"/>
              <a:ext cx="917568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rot="10800000">
              <a:off x="0" y="153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5405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Информация о возникновении нарушения теплоснабжения</a:t>
            </a:r>
            <a:br>
              <a:rPr sz="2000"/>
            </a:b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населения и объектов социальной сферы </a:t>
            </a:r>
            <a:br>
              <a:rPr sz="2000"/>
            </a:b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и прохождении ОЗП по состоянию на 01 апреля 2023 года </a:t>
            </a:r>
            <a:br>
              <a:rPr sz="2000"/>
            </a:b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сравнении с предыдущим период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1773360"/>
          <a:ext cx="8207280" cy="4294080"/>
        </p:xfrm>
        <a:graphic>
          <a:graphicData uri="http://schemas.openxmlformats.org/drawingml/2006/table">
            <a:tbl>
              <a:tblPr/>
              <a:tblGrid>
                <a:gridCol w="1133280"/>
                <a:gridCol w="578160"/>
                <a:gridCol w="577800"/>
                <a:gridCol w="577800"/>
                <a:gridCol w="577800"/>
                <a:gridCol w="577800"/>
                <a:gridCol w="577800"/>
                <a:gridCol w="577800"/>
                <a:gridCol w="578160"/>
                <a:gridCol w="577800"/>
                <a:gridCol w="647640"/>
                <a:gridCol w="647640"/>
                <a:gridCol w="577800"/>
              </a:tblGrid>
              <a:tr h="10429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ушение теплоснабжения потреб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ыше 24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ушение теплоснабжения потреб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6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ушение теплоснабжения потреб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6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-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-2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-2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-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-2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-2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-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-2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-2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-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-2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-2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71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ль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69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янская 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71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л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69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уж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71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язан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69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окское управл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428760" y="142920"/>
            <a:ext cx="813564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дной из главных задач проводимых Приокским управлением Ростехнадзора общественных слушаний  является улучшение взаимодействия между органами власти, бизнесом  и обществом для повышения промышленной и энергетической безопасности, обеспечения безаварийной работы и исключения случаев нанесения вреда жизни и здоровью гражд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A991-7532-44B0-BEAD-617218823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23" descr=""/>
          <p:cNvPicPr/>
          <p:nvPr/>
        </p:nvPicPr>
        <p:blipFill>
          <a:blip r:embed="rId1"/>
          <a:stretch/>
        </p:blipFill>
        <p:spPr>
          <a:xfrm>
            <a:off x="3564000" y="3429000"/>
            <a:ext cx="1508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3866-899E-4EAB-867C-7FDBA28AE7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доклад подготовлен к проведению публичных мероприятий  с подконтрольными субъектами во исполнение положений приоритетной программы «Реформа контрольной и надзорной деятель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мероприят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доведение до сведения подконтрольных Приокскому управлению организаций информации о применяемых Ростехнадзором и её должностными лицами формах и метода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ыявления и пресечения нарушений обязательных требований, причин, факторов и условий, способствующих их возникнов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мероприят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единообразных подходов к применению Федеральной службой по экологическому, технологическому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атомному надзору и её должностными лицами обязательных требований, законодательства Российской Федерац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государственном контроле (надзор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вление типичных нарушений обязательных требований, причин, факторов и условий, способствующих их возникнове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анализа случаев причинения вреда (ущерба) охраняемым законом ценностям, выявление источников и факторов риска причинения вреда (ущерб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редложений об актуализации обязательных требов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9654-ADF9-409C-9755-F2540C2D4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лномочия Приокского управления Ростехнадз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надзор в области промышленной безопас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едеральный государственный энергетический надзор, в том числе оценка готовности теплоснабжающих организаций и муниципальных образований к отопительному перио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зор в области безопасности гидротехнических сооруж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й строительный надзор и надзор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деятельностью саморегулируемых организаций в области инженерных изысканий, архитектурно-строительного проектирования, строительства, реконструкции, капитального ремонта объектов капитального строите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4A1B-202C-499C-A14E-43AC56719F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ценке готовности к отопительному периоду подлежат:</a:t>
            </a: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1" descr=""/>
          <p:cNvPicPr/>
          <p:nvPr/>
        </p:nvPicPr>
        <p:blipFill>
          <a:blip r:embed="rId1"/>
          <a:stretch/>
        </p:blipFill>
        <p:spPr>
          <a:xfrm>
            <a:off x="676440" y="1335240"/>
            <a:ext cx="7785000" cy="504648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A045-4BFE-4579-A9C9-644E506DE5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Line 2"/>
          <p:cNvGrpSpPr/>
          <p:nvPr/>
        </p:nvGrpSpPr>
        <p:grpSpPr>
          <a:xfrm>
            <a:off x="-19080" y="1139760"/>
            <a:ext cx="9175680" cy="66600"/>
            <a:chOff x="-19080" y="1139760"/>
            <a:chExt cx="9175680" cy="66600"/>
          </a:xfrm>
        </p:grpSpPr>
        <p:pic>
          <p:nvPicPr>
            <p:cNvPr id="71" name="Line 2" descr=""/>
            <p:cNvPicPr/>
            <p:nvPr/>
          </p:nvPicPr>
          <p:blipFill>
            <a:blip r:embed="rId2"/>
            <a:stretch/>
          </p:blipFill>
          <p:spPr>
            <a:xfrm>
              <a:off x="-19080" y="1139760"/>
              <a:ext cx="917568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0800000">
              <a:off x="0" y="1172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я об оценке готовности к ОЗП муниципальны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ований  в разрезе субъектов за 2020-2022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197000"/>
          <a:ext cx="7991280" cy="5081400"/>
        </p:xfrm>
        <a:graphic>
          <a:graphicData uri="http://schemas.openxmlformats.org/drawingml/2006/table">
            <a:tbl>
              <a:tblPr/>
              <a:tblGrid>
                <a:gridCol w="949320"/>
                <a:gridCol w="466560"/>
                <a:gridCol w="469800"/>
                <a:gridCol w="4701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9800"/>
                <a:gridCol w="468360"/>
                <a:gridCol w="468360"/>
                <a:gridCol w="473040"/>
                <a:gridCol w="473040"/>
              </a:tblGrid>
              <a:tr h="2238840">
                <a:tc rowSpan="2"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gridSpan="3"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МО, подлежащих провер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д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спортов готов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получивших паспорта готов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лучившие паспорт готовности, обращались за получением акта готовности после 15 ноябр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да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ов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ноябр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7224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ль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7404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ян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7224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уж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7224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язан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7404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лов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5764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вле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C4E8-DF00-4588-9A19-8BAEAB262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DD31-2AFA-41D5-BA6C-C4FE17B80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Line 2"/>
          <p:cNvGrpSpPr/>
          <p:nvPr/>
        </p:nvGrpSpPr>
        <p:grpSpPr>
          <a:xfrm>
            <a:off x="-19080" y="1139760"/>
            <a:ext cx="9175680" cy="66600"/>
            <a:chOff x="-19080" y="1139760"/>
            <a:chExt cx="9175680" cy="66600"/>
          </a:xfrm>
        </p:grpSpPr>
        <p:pic>
          <p:nvPicPr>
            <p:cNvPr id="78" name="Line 2" descr=""/>
            <p:cNvPicPr/>
            <p:nvPr/>
          </p:nvPicPr>
          <p:blipFill>
            <a:blip r:embed="rId1"/>
            <a:stretch/>
          </p:blipFill>
          <p:spPr>
            <a:xfrm>
              <a:off x="-19080" y="1139760"/>
              <a:ext cx="917568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10800000">
              <a:off x="0" y="1172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54080"/>
            <a:ext cx="8685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нформация о запуске котельных и социально-значимых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ъектов в ОЗП 2022-2023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9320" y="1916280"/>
          <a:ext cx="7996320" cy="1728720"/>
        </p:xfrm>
        <a:graphic>
          <a:graphicData uri="http://schemas.openxmlformats.org/drawingml/2006/table">
            <a:tbl>
              <a:tblPr/>
              <a:tblGrid>
                <a:gridCol w="909720"/>
                <a:gridCol w="1079640"/>
                <a:gridCol w="865080"/>
                <a:gridCol w="1049400"/>
                <a:gridCol w="866880"/>
                <a:gridCol w="1047600"/>
                <a:gridCol w="1089000"/>
                <a:gridCol w="1089000"/>
              </a:tblGrid>
              <a:tr h="82368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плоснабжающих организаций, шт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ниципальные котельные,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тельные управляющих организаций,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 котельных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пущено котельных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щ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щ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щ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755640" y="4221000"/>
          <a:ext cx="7848720" cy="1511640"/>
        </p:xfrm>
        <a:graphic>
          <a:graphicData uri="http://schemas.openxmlformats.org/drawingml/2006/table">
            <a:tbl>
              <a:tblPr/>
              <a:tblGrid>
                <a:gridCol w="960480"/>
                <a:gridCol w="1001520"/>
                <a:gridCol w="957600"/>
                <a:gridCol w="1000080"/>
                <a:gridCol w="955440"/>
                <a:gridCol w="1001880"/>
                <a:gridCol w="969840"/>
                <a:gridCol w="1001880"/>
              </a:tblGrid>
              <a:tr h="5032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лые д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щ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щ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щ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щ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83" name="TextBox 9"/>
          <p:cNvSpPr/>
          <p:nvPr/>
        </p:nvSpPr>
        <p:spPr>
          <a:xfrm>
            <a:off x="90000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ъекты теплоснаб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750960" y="3716280"/>
            <a:ext cx="33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ъекты теплопотреб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6340-F511-452B-AA54-F07583D4D4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091160" y="277560"/>
            <a:ext cx="736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Информация о проведенных мероприятиях по оценке готов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плоснабжающих организаций к ОЗП 2022-2023 г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Таблица 1" descr=""/>
          <p:cNvPicPr/>
          <p:nvPr/>
        </p:nvPicPr>
        <p:blipFill>
          <a:blip r:embed="rId1"/>
          <a:stretch/>
        </p:blipFill>
        <p:spPr>
          <a:xfrm>
            <a:off x="444600" y="1047600"/>
            <a:ext cx="83214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нарушения, выявленные в ходе оценки подготовки к ОЗП 2022-2023 годов теплоснабжающих организаций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400" y="1428840"/>
            <a:ext cx="8358120" cy="50004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76"/>
              </a:spcBef>
              <a:buClr>
                <a:srgbClr val="37609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76092"/>
                </a:solidFill>
                <a:latin typeface="Calibri"/>
              </a:rPr>
              <a:t>Не соблюдение сроков проведения мероприятий по продлению сроков безопасной эксплуатации зданий, сооружений и технических устройств, отработавших срок службы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76"/>
              </a:spcBef>
              <a:buClr>
                <a:srgbClr val="37609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76092"/>
                </a:solidFill>
                <a:latin typeface="Calibri"/>
              </a:rPr>
              <a:t>Не своевременное проведение модернизации и замены устаревшего оборудования (котлов, сосудов, трубопроводов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76"/>
              </a:spcBef>
              <a:buClr>
                <a:srgbClr val="37609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76092"/>
                </a:solidFill>
                <a:latin typeface="Calibri"/>
              </a:rPr>
              <a:t>Допуск к работе неквалифицированного персонала, не прошедшего обучение и стажировку, назначение ответственных лиц, </a:t>
            </a:r>
            <a:br>
              <a:rPr sz="1900"/>
            </a:br>
            <a:r>
              <a:rPr b="1" i="1" lang="ru-RU" sz="1900" spc="-1" strike="noStrike">
                <a:solidFill>
                  <a:srgbClr val="376092"/>
                </a:solidFill>
                <a:latin typeface="Calibri"/>
              </a:rPr>
              <a:t>не прошедших проверку знан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76"/>
              </a:spcBef>
              <a:buClr>
                <a:srgbClr val="37609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76092"/>
                </a:solidFill>
                <a:latin typeface="Calibri"/>
              </a:rPr>
              <a:t>не проводятся противоаварийные тренировки по ликвидации возможных аварийных ситуаций, характерных для работы в ОЗП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76"/>
              </a:spcBef>
              <a:buClr>
                <a:srgbClr val="37609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76092"/>
                </a:solidFill>
                <a:latin typeface="Calibri"/>
              </a:rPr>
              <a:t>не завершаются в срок плановые ремонтные работы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76"/>
              </a:spcBef>
              <a:buClr>
                <a:srgbClr val="37609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76092"/>
                </a:solidFill>
                <a:latin typeface="Calibri"/>
              </a:rPr>
              <a:t>Не обеспечение резервными источниками электроснабжения котельных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76"/>
              </a:spcBef>
              <a:buClr>
                <a:srgbClr val="37609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76092"/>
                </a:solidFill>
                <a:latin typeface="Calibri"/>
              </a:rPr>
              <a:t>несвоевременно и в неполном объеме выполняются планы и графики расчистки просек воздушных линий электропередачи (ВЛ) от древесно-кустарниковой растительност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CD57-A8FA-4299-9F63-719C0D6BD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Line 2"/>
          <p:cNvGrpSpPr/>
          <p:nvPr/>
        </p:nvGrpSpPr>
        <p:grpSpPr>
          <a:xfrm>
            <a:off x="-19080" y="1139760"/>
            <a:ext cx="9175680" cy="66600"/>
            <a:chOff x="-19080" y="1139760"/>
            <a:chExt cx="9175680" cy="66600"/>
          </a:xfrm>
        </p:grpSpPr>
        <p:pic>
          <p:nvPicPr>
            <p:cNvPr id="92" name="Line 2" descr=""/>
            <p:cNvPicPr/>
            <p:nvPr/>
          </p:nvPicPr>
          <p:blipFill>
            <a:blip r:embed="rId1"/>
            <a:stretch/>
          </p:blipFill>
          <p:spPr>
            <a:xfrm>
              <a:off x="-19080" y="1139760"/>
              <a:ext cx="917568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10800000">
              <a:off x="0" y="1172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5T06:06:09Z</dcterms:created>
  <dc:creator>Белев Леонид Вячеславович</dc:creator>
  <dc:description/>
  <dc:language>en-US</dc:language>
  <cp:lastModifiedBy>Пономарев</cp:lastModifiedBy>
  <dcterms:modified xsi:type="dcterms:W3CDTF">2023-06-19T06:58:46Z</dcterms:modified>
  <cp:revision>300</cp:revision>
  <dc:subject/>
  <dc:title>Презентация PowerPoint</dc:title>
</cp:coreProperties>
</file>