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10.png" ContentType="image/png"/>
  <Override PartName="/ppt/media/image17.jpeg" ContentType="image/jpeg"/>
  <Override PartName="/ppt/media/image3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EDC-5E02-45B8-8FA2-AC6A6B84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BBC7-90B3-4BC6-84E1-74703EEB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431-1E99-4402-8EA6-2445F9B4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9230-AB85-49F2-B538-5846D3E0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3F3E-B820-496A-9F10-66465B94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F2F-E613-4306-969F-3E59CCB9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9C9-EF8F-4AEB-831D-43D9BE68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4305-A371-410B-982E-4A281D20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8CD7-5F55-410D-B8A8-B086CC4E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38E-6013-48C7-993D-FE892038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55EE-0DD5-43EA-A24B-47235C50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83C-8A6F-4939-95CF-66CC54ED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2648-59D2-46F0-A181-4118FC18CB1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7FED-27B4-4D23-8A65-DDB2C5DC3E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533160"/>
            <a:ext cx="916308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523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Times New Roman"/>
              </a:rPr>
              <a:t>ФЕДЕРАЛЬНАЯ СЛУЖБА </a:t>
            </a:r>
            <a:br>
              <a:rPr sz="2100"/>
            </a:br>
            <a:r>
              <a:rPr b="1" lang="ru-RU" sz="2100" spc="-1" strike="noStrike">
                <a:solidFill>
                  <a:srgbClr val="000099"/>
                </a:solidFill>
                <a:latin typeface="Times New Roman"/>
              </a:rPr>
              <a:t>ПО ЭКОЛОГИЧЕСКОМУ, ТЕХНОЛОГИЧЕСКОМУ </a:t>
            </a:r>
            <a:br>
              <a:rPr sz="2100"/>
            </a:br>
            <a:r>
              <a:rPr b="1" lang="ru-RU" sz="2100" spc="-1" strike="noStrike">
                <a:solidFill>
                  <a:srgbClr val="000099"/>
                </a:solidFill>
                <a:latin typeface="Times New Roman"/>
              </a:rPr>
              <a:t>И АТОМНОМУ НАДЗОРУ </a:t>
            </a:r>
            <a:br>
              <a:rPr sz="2100"/>
            </a:br>
            <a:r>
              <a:rPr b="1" lang="ru-RU" sz="2100" spc="-1" strike="noStrike">
                <a:solidFill>
                  <a:srgbClr val="000099"/>
                </a:solidFill>
                <a:latin typeface="Times New Roman"/>
              </a:rPr>
              <a:t>(РОСТЕХНАДЗОР)</a:t>
            </a:r>
            <a:br>
              <a:rPr sz="2100"/>
            </a:br>
            <a:br>
              <a:rPr sz="2100"/>
            </a:br>
            <a:r>
              <a:rPr b="1" lang="ru-RU" sz="2100" spc="-1" strike="noStrike">
                <a:solidFill>
                  <a:srgbClr val="000099"/>
                </a:solidFill>
                <a:latin typeface="Times New Roman"/>
              </a:rPr>
              <a:t>ПРИОКСКОЕ УПРАВЛЕНИ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6172200"/>
            <a:ext cx="8915400" cy="3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4719600" y="3919680"/>
            <a:ext cx="469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окского упр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стехнадз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.Г. Чел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560520" y="2133720"/>
            <a:ext cx="862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РИМЕНИТЕЛЬНАЯ ПРАКТ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КСКОГО УПРАВЛЕНИЯ РОСТЕХНАДЗОРА, В ТОМ ЧИСЛЕ ПРИ ОСУЩЕСТВЛЕНИИ ФЕДЕРАЛЬНОГО ГОСУДАРСТВЕННОГО НАДЗОРА В ОБЛАСТИ БЕЗОПАСНОСТИ ГИДРОТЕХНИЧЕСКИХ СООРУЖЕНИЙ ПО ИТОГАМ 202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gostechnadzor_logo"/>
          <p:cNvPicPr/>
          <p:nvPr/>
        </p:nvPicPr>
        <p:blipFill>
          <a:blip r:embed="rId1"/>
          <a:stretch/>
        </p:blipFill>
        <p:spPr>
          <a:xfrm>
            <a:off x="1136520" y="3830760"/>
            <a:ext cx="35719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B023-F422-45E1-A3A8-DA2B05379F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205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210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460440" y="907920"/>
            <a:ext cx="8915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результаты регистрации объектов в государственном реестре опасных производственных 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Объект 2"/>
          <p:cNvGraphicFramePr/>
          <p:nvPr/>
        </p:nvGraphicFramePr>
        <p:xfrm>
          <a:off x="1247760" y="2492280"/>
          <a:ext cx="7410600" cy="23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7760" y="2492280"/>
                    <a:ext cx="74106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9122-E951-4F5C-A6FD-9FC8C6F677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220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225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460440" y="907920"/>
            <a:ext cx="8915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ы лицензионной, разрешительной деятельности, аттестации, регистрации и других действий за 2022 г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2073240" y="1585800"/>
            <a:ext cx="5791320" cy="50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7138-276B-47C1-B697-E4D0DA09C2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234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239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460440" y="907920"/>
            <a:ext cx="8915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проблемы и факторы риска, оказывавшие влияние на состояние безопасности по направлениям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563400" y="1643040"/>
            <a:ext cx="9001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кая степень износа основных фондов и низкая инвестиционная актив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ий уровень профессиональной подготовки рабочих основных профессий, а также текучесть кад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 Недостаточное внимание уделяется всем видам инструктажа, работы    повышенной опасности проводятся с нарушением требований безопасности, наблюдается низкая производственная и исполнительская дисципл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таточный уровень качества осуществления производственного контроля, недостаточный контроль со стороны служб производственного контроля предприятий за выполнением предписаний государственных инспекторов Ростехнадз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4CF7-9DE5-4595-8D14-EA30451817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248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253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460440" y="907920"/>
            <a:ext cx="8915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проблем и факторов риска, оказывавшие влияние на состояние безопас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66600" y="1700280"/>
            <a:ext cx="9866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ать требовательность со стороны инспекторского состава к руководителям организаций, осуществляющим деятельность в области промышленной и энергетической безопасности, безопасности гидротехнических сооружений, в области государственного строительного надзора, надзора за соблюдением требований технических регламентов за допущенные аварии, инциденты, несчастные случаи, грубые, а также неоднократные нарушения обязательных требо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буждать поднадзорные предприятия и организации к модернизации и обновлению морально и физически устаревшего оборудования на поднадзорных объек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йствовать в повышении уровня знаний в области промышленной и энергетической безопасности работников поднадзорных предприятий и организ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лечение на государственную гражданскую службу наиболее квалифицированных специалистов, повышение престижности профессии инспек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A149-7998-41B4-AA32-F3194FB92A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262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5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267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460440" y="907920"/>
            <a:ext cx="8915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арийность и травма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Объект 2"/>
          <p:cNvGraphicFramePr/>
          <p:nvPr/>
        </p:nvGraphicFramePr>
        <p:xfrm>
          <a:off x="2394000" y="1281240"/>
          <a:ext cx="470520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94000" y="1281240"/>
                    <a:ext cx="47052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TextBox 3"/>
          <p:cNvSpPr/>
          <p:nvPr/>
        </p:nvSpPr>
        <p:spPr>
          <a:xfrm>
            <a:off x="455760" y="2700360"/>
            <a:ext cx="881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авария – на объекте металлургическ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авария - на нефтехимическом объе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аварии - на объекте с использованием грузоподъемных механиз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авария - на магистральном нефтепро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5"/>
          <p:cNvSpPr/>
          <p:nvPr/>
        </p:nvSpPr>
        <p:spPr>
          <a:xfrm>
            <a:off x="352440" y="3902040"/>
            <a:ext cx="920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групповой несчастный случай в результате аварии на нефтехимическом объе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групповой несчастный случай в результате аварии на объекте с использованием грузоподъемных механиз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380880" y="48261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смертельный случай  в результате аварии на объекте, где используется грузоподъемный механиз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смертельный случай  на объекте металлургическ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смертельный случай  на объекте энерге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"/>
          <p:cNvSpPr/>
          <p:nvPr/>
        </p:nvSpPr>
        <p:spPr>
          <a:xfrm>
            <a:off x="419400" y="6060960"/>
            <a:ext cx="83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тяжёлый несчастный случай  на объекте металлургического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1C54-4DB7-4309-82E5-8411544105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281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286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9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290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460440" y="907920"/>
            <a:ext cx="8915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ятые меры в части снижения аварийности и травматизма на ОПО металлургического надзора, подъемных сооружениях, нефтехимических опасных производственных объектах, объектах электроэнерге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"/>
          <p:cNvSpPr/>
          <p:nvPr/>
        </p:nvSpPr>
        <p:spPr>
          <a:xfrm>
            <a:off x="560520" y="2060640"/>
            <a:ext cx="88153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ы совещания с участием руководящего состава предприят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ы внеплановые проверки по результатам которых к административной ответственности привлечены виновные лиц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адрес поднадзорных организаций направлены информационные пись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ы совещания-семинары в режиме ВКС с представителями поднадзорных организ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о 880 консультаций по вопросам промышленной безопас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о 4 публичных слушания по обсуждению вопросов правоприменительной практики в области промышленной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6725-9EE7-4197-8978-29F58D3E49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99800" y="907920"/>
            <a:ext cx="950580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296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300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301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4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460440" y="907920"/>
            <a:ext cx="8915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сударственный надзор за ГТ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627360" y="1446120"/>
            <a:ext cx="62787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служба по экологическому, технологическому и атомному надзору (Ростехнадзор) осуществляет Федеральный государственный надзор за соблюдением собственниками гидротехнических сооружений и эксплуатирующими организациями обязательных требований к обеспечению безопасности ГТС при проектировании, строительстве, капитальном ремонте, эксплуатации, реконструкции, консервации и ликвидации гидротехнических сооружений(за исключением судоходных  и портовых ГТС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3"/>
          <a:stretch/>
        </p:blipFill>
        <p:spPr>
          <a:xfrm>
            <a:off x="193680" y="1341360"/>
            <a:ext cx="3535200" cy="26114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"/>
          <p:cNvPicPr/>
          <p:nvPr/>
        </p:nvPicPr>
        <p:blipFill>
          <a:blip r:embed="rId4"/>
          <a:stretch/>
        </p:blipFill>
        <p:spPr>
          <a:xfrm>
            <a:off x="5384880" y="4292640"/>
            <a:ext cx="3681360" cy="226368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6"/>
          <p:cNvSpPr/>
          <p:nvPr/>
        </p:nvSpPr>
        <p:spPr>
          <a:xfrm>
            <a:off x="236520" y="5000760"/>
            <a:ext cx="4681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надзор и контроль за безопасностью судоходных и портовых ГТС обеспечивает Минтранс России (Ространснадзо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A62E-B477-48F4-8809-6AAD573BA4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313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6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318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"/>
          <p:cNvSpPr/>
          <p:nvPr/>
        </p:nvSpPr>
        <p:spPr>
          <a:xfrm>
            <a:off x="236520" y="1290600"/>
            <a:ext cx="94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 осуществляет Федеральный государственный надзор в области безопасности гидротехнических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"/>
          <p:cNvSpPr/>
          <p:nvPr/>
        </p:nvSpPr>
        <p:spPr>
          <a:xfrm>
            <a:off x="4408200" y="92556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2010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4"/>
          <p:cNvSpPr/>
          <p:nvPr/>
        </p:nvSpPr>
        <p:spPr>
          <a:xfrm>
            <a:off x="488880" y="2133720"/>
            <a:ext cx="90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региональный отдел по надзору за безопасностью гидротехнических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6"/>
          <p:cNvSpPr/>
          <p:nvPr/>
        </p:nvSpPr>
        <p:spPr>
          <a:xfrm>
            <a:off x="4619520" y="277956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3"/>
          <a:stretch/>
        </p:blipFill>
        <p:spPr>
          <a:xfrm>
            <a:off x="358920" y="3500280"/>
            <a:ext cx="9370800" cy="1297080"/>
          </a:xfrm>
          <a:prstGeom prst="rect">
            <a:avLst/>
          </a:prstGeom>
          <a:ln w="0">
            <a:noFill/>
          </a:ln>
        </p:spPr>
      </p:pic>
      <p:cxnSp>
        <p:nvCxnSpPr>
          <p:cNvPr id="328" name="Прямая со стрелкой 8"/>
          <p:cNvCxnSpPr>
            <a:stCxn id="326" idx="1"/>
          </p:cNvCxnSpPr>
          <p:nvPr/>
        </p:nvCxnSpPr>
        <p:spPr>
          <a:xfrm flipH="1">
            <a:off x="2359800" y="2963880"/>
            <a:ext cx="2259720" cy="6818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pic>
        <p:nvPicPr>
          <p:cNvPr id="329" name="Picture 3" descr=""/>
          <p:cNvPicPr/>
          <p:nvPr/>
        </p:nvPicPr>
        <p:blipFill>
          <a:blip r:embed="rId4"/>
          <a:stretch/>
        </p:blipFill>
        <p:spPr>
          <a:xfrm rot="13928400">
            <a:off x="5303160" y="3380400"/>
            <a:ext cx="2420640" cy="793800"/>
          </a:xfrm>
          <a:prstGeom prst="rect">
            <a:avLst/>
          </a:prstGeom>
          <a:ln w="0">
            <a:noFill/>
          </a:ln>
        </p:spPr>
      </p:pic>
      <p:cxnSp>
        <p:nvCxnSpPr>
          <p:cNvPr id="330" name="Прямая со стрелкой 22"/>
          <p:cNvCxnSpPr/>
          <p:nvPr/>
        </p:nvCxnSpPr>
        <p:spPr>
          <a:xfrm flipH="1">
            <a:off x="2820240" y="3102120"/>
            <a:ext cx="1909080" cy="132120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331" name="Прямая со стрелкой 23"/>
          <p:cNvCxnSpPr/>
          <p:nvPr/>
        </p:nvCxnSpPr>
        <p:spPr>
          <a:xfrm>
            <a:off x="5043240" y="3147840"/>
            <a:ext cx="1080" cy="46296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332" name="Прямая со стрелкой 28"/>
          <p:cNvCxnSpPr/>
          <p:nvPr/>
        </p:nvCxnSpPr>
        <p:spPr>
          <a:xfrm flipH="1">
            <a:off x="2359800" y="2963880"/>
            <a:ext cx="2259720" cy="68184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333" name="Прямая со стрелкой 30"/>
          <p:cNvCxnSpPr/>
          <p:nvPr/>
        </p:nvCxnSpPr>
        <p:spPr>
          <a:xfrm>
            <a:off x="5457960" y="2963520"/>
            <a:ext cx="2797920" cy="646920"/>
          </a:xfrm>
          <a:prstGeom prst="straightConnector1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</p:cxnSp>
      <p:sp>
        <p:nvSpPr>
          <p:cNvPr id="334" name="TextBox 1"/>
          <p:cNvSpPr/>
          <p:nvPr/>
        </p:nvSpPr>
        <p:spPr>
          <a:xfrm>
            <a:off x="2539080" y="5300640"/>
            <a:ext cx="47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енность отдела составляет 8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"/>
          <p:cNvSpPr/>
          <p:nvPr/>
        </p:nvSpPr>
        <p:spPr>
          <a:xfrm>
            <a:off x="2688120" y="5867280"/>
            <a:ext cx="41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о нахождение отдела  -г. Кал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5FD2-4343-40A7-AA85-18CE13689C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338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342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343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"/>
          <p:cNvSpPr/>
          <p:nvPr/>
        </p:nvSpPr>
        <p:spPr>
          <a:xfrm>
            <a:off x="2469960" y="981000"/>
            <a:ext cx="57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нормативные правовые и правовые а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"/>
          <p:cNvSpPr/>
          <p:nvPr/>
        </p:nvSpPr>
        <p:spPr>
          <a:xfrm>
            <a:off x="413280" y="134928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е зак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3"/>
          <p:cNvSpPr/>
          <p:nvPr/>
        </p:nvSpPr>
        <p:spPr>
          <a:xfrm>
            <a:off x="354960" y="2749680"/>
            <a:ext cx="65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ления Правительства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4"/>
          <p:cNvSpPr/>
          <p:nvPr/>
        </p:nvSpPr>
        <p:spPr>
          <a:xfrm>
            <a:off x="398160" y="4437000"/>
            <a:ext cx="29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ы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426960" y="4900680"/>
            <a:ext cx="565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министративные регламенты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6"/>
          <p:cNvSpPr/>
          <p:nvPr/>
        </p:nvSpPr>
        <p:spPr>
          <a:xfrm>
            <a:off x="231840" y="5343480"/>
            <a:ext cx="92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тношении  ГТС объектов энергетики Приказ Минэнерго России от 04.10.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70 «Об утверждении Правил технической эксплуатации электрических станций и сетей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7"/>
          <p:cNvSpPr/>
          <p:nvPr/>
        </p:nvSpPr>
        <p:spPr>
          <a:xfrm>
            <a:off x="376200" y="1698480"/>
            <a:ext cx="955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от 31.07.2020 № 248-ФЗ «О государственном контроле (надзоре) и муниципальном контроле в Российской Федерац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от 21.07.1997 №117-ФЗ «О безопасности гидротехнических сооружений»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8"/>
          <p:cNvSpPr/>
          <p:nvPr/>
        </p:nvSpPr>
        <p:spPr>
          <a:xfrm>
            <a:off x="376200" y="3143160"/>
            <a:ext cx="899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от 30.07.2004  № 401 «О Федеральной службе по экологическому, технологическому и атомному надзору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от 30 июня 2021 года №1080 «О федеральном государственном надзоре в области безопасности гидротехнических сооружен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94C9-668E-4E90-98FA-5F2155C4FD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358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363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6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367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"/>
          <p:cNvSpPr/>
          <p:nvPr/>
        </p:nvSpPr>
        <p:spPr>
          <a:xfrm>
            <a:off x="1375560" y="1015920"/>
            <a:ext cx="78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 государственного надзора  в области безопасности ГТ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"/>
          <p:cNvSpPr/>
          <p:nvPr/>
        </p:nvSpPr>
        <p:spPr>
          <a:xfrm>
            <a:off x="588960" y="1386000"/>
            <a:ext cx="914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юридическим лицом, индивидуальным предпринимателем в процессе осуществления деятельности по эксплуатации, капитальному ремонту, консервации и ликвидации гидротехнических сооружений обязательных требований к обеспечению безопасности гидротехнических сооружений, установленных Федеральным законом "О безопасности гидротехнических сооружений"  и принимаемыми в соответствии с ним иными нормативными правовыми актами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3"/>
          <p:cNvSpPr/>
          <p:nvPr/>
        </p:nvSpPr>
        <p:spPr>
          <a:xfrm>
            <a:off x="426960" y="4729320"/>
            <a:ext cx="899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надзор осуществляется посред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илактики нарушений обязательных требов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зации и проведения контрольных (надзорных) мероприят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уществления постоянного государственного контроля (надзор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нятия предусмотренных законодательством Российской Федерации мер по пресечению нарушений обязательных требо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"/>
          <p:cNvSpPr/>
          <p:nvPr/>
        </p:nvSpPr>
        <p:spPr>
          <a:xfrm>
            <a:off x="452880" y="3174840"/>
            <a:ext cx="91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а федерального государственного надзора в области безопасности ГТ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"/>
          <p:cNvSpPr/>
          <p:nvPr/>
        </p:nvSpPr>
        <p:spPr>
          <a:xfrm>
            <a:off x="349200" y="3645000"/>
            <a:ext cx="921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, выявление и пресечение нарушений требований к обеспечению безопасности гидротехнических сооружений, установленных законодательством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13B3-A2FD-417F-BEA6-EB4EA64D04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48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53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352440" y="2151000"/>
            <a:ext cx="863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 июля  2009г. образовано 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76120" y="1832040"/>
            <a:ext cx="914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ом Ростехнадзора от 24.03.2009 N 1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214200" y="2602080"/>
            <a:ext cx="3541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09.02.2009 N 8-ФЗ «Об обеспечении доступа к информации о деятельности государственных органов и органов местного самоуправления»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63440" y="4149720"/>
            <a:ext cx="358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а информация о деятельности Управления в сети "Интерн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276120" y="907920"/>
            <a:ext cx="95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целях реализации послания Президента Российской Федерации Федеральному Собранию Российской Федерации от 5 ноября 2008 года в части сокращения числа и оптимизации деятельности территориальных органов федеральных органов исполнительной в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1" descr=""/>
          <p:cNvPicPr/>
          <p:nvPr/>
        </p:nvPicPr>
        <p:blipFill>
          <a:blip r:embed="rId3"/>
          <a:stretch/>
        </p:blipFill>
        <p:spPr>
          <a:xfrm>
            <a:off x="3753000" y="2708280"/>
            <a:ext cx="600552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7C82-3FB2-4ED9-8F9D-3731CD9D19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375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8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380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3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384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488880" y="981000"/>
            <a:ext cx="8915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йский регистр ГТ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716280" y="2189160"/>
            <a:ext cx="59706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 представляет собой единую систему государственного учета, регистрации, хранения и предоставления информации о ГТС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17 года ведение Регистра осуществляет Ростехнадз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9" descr="main_02"/>
          <p:cNvPicPr/>
          <p:nvPr/>
        </p:nvPicPr>
        <p:blipFill>
          <a:blip r:embed="rId3"/>
          <a:stretch/>
        </p:blipFill>
        <p:spPr>
          <a:xfrm>
            <a:off x="365040" y="1417680"/>
            <a:ext cx="2716200" cy="2319120"/>
          </a:xfrm>
          <a:prstGeom prst="rect">
            <a:avLst/>
          </a:prstGeom>
          <a:ln w="0">
            <a:noFill/>
          </a:ln>
        </p:spPr>
      </p:pic>
      <p:sp>
        <p:nvSpPr>
          <p:cNvPr id="388" name="TextBox 2"/>
          <p:cNvSpPr/>
          <p:nvPr/>
        </p:nvSpPr>
        <p:spPr>
          <a:xfrm>
            <a:off x="230040" y="3789360"/>
            <a:ext cx="9353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гидротехнического сооружения присваивается в соответствии с критериями классификации, установленными Правительством Российской Феде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класс - гидротехническое сооружение чрезвычайно высокой опас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класс - гидротехническое сооружение высокой опас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класс - гидротехническое сооружение средней опас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класс - гидротехническое сооружение низкой 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"/>
          <p:cNvSpPr/>
          <p:nvPr/>
        </p:nvSpPr>
        <p:spPr>
          <a:xfrm>
            <a:off x="3613320" y="1413000"/>
            <a:ext cx="61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гидротехнических сооружений осуществляется в Российском регистре гидротехнических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2"/>
          <p:cNvSpPr/>
          <p:nvPr/>
        </p:nvSpPr>
        <p:spPr>
          <a:xfrm>
            <a:off x="109440" y="5783400"/>
            <a:ext cx="959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остоянию на 31.12.2022г. на поднадзорной Управлению территории внесены в Регистр 421 ГТ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F3C5-3A38-4B47-9E37-A1B84153A6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393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6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397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398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1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402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"/>
          <p:cNvSpPr/>
          <p:nvPr/>
        </p:nvSpPr>
        <p:spPr>
          <a:xfrm>
            <a:off x="352440" y="1579680"/>
            <a:ext cx="95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тношении ГТС      I или II класса - не чаще одного раза в г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тношении ГТС    III класса - не чаще одного раза в 3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тношении ГТС    IV класса плановые проверки не пров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289080" y="3780000"/>
            <a:ext cx="91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сведения о гидротехническом сооружении не внесены или не обновлены в Российском регистре гидротехнических сооружений с присвоением гидротехническому сооружению соответствующего класса, плановые проверки в отношении такого гидротехнического сооружения проводятся не чаще чем один раз в течение одного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2243520" y="1008000"/>
            <a:ext cx="57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ичность проведения плановых прове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4"/>
          <p:cNvSpPr/>
          <p:nvPr/>
        </p:nvSpPr>
        <p:spPr>
          <a:xfrm>
            <a:off x="216000" y="2565360"/>
            <a:ext cx="941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оответствии юридического лица и ИП критериям оценки добросовестности периодичность проведения плановых выездных проверок устанавли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 отношении ГТС I или II класса - не чаще одного раза в 2 г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 отношении ГТС III класса - не чаще одного раза в 4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5"/>
          <p:cNvSpPr/>
          <p:nvPr/>
        </p:nvSpPr>
        <p:spPr>
          <a:xfrm>
            <a:off x="328680" y="5284800"/>
            <a:ext cx="86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овые контрольные (надзорные) мероприятия в рамках государственного надзора осуществляются только в виде выездных прове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6"/>
          <p:cNvSpPr/>
          <p:nvPr/>
        </p:nvSpPr>
        <p:spPr>
          <a:xfrm>
            <a:off x="455760" y="5945040"/>
            <a:ext cx="83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ок проведения выездной проверки не может превышать 10 рабочих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D9E4-D206-4AE1-AD45-6074DFBC92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411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416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420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3"/>
          <p:cNvSpPr/>
          <p:nvPr/>
        </p:nvSpPr>
        <p:spPr>
          <a:xfrm>
            <a:off x="3152880" y="103680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плановые провер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5"/>
          <p:cNvSpPr/>
          <p:nvPr/>
        </p:nvSpPr>
        <p:spPr>
          <a:xfrm>
            <a:off x="23760" y="2552760"/>
            <a:ext cx="950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 наличии сведений о причинении вреда (ущерба) или об угрозе причинения вреда (ущерба) охраняемым законом ценност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 выявлении индикаторов риска нарушения обязательных требов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  поручению Президента Российской Федер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  поручению Правительства Российской Федер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 требованию прокуро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 истечение срока исполнения решения(предписания) об устранении выявленного нарушения обязательных требов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 наступлении события, указанного в программе проверок, если федеральным законом о виде контроля установлено, что контрольные (надзорные) мероприятия проводятся на основании программы прове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 поступлении от контролируемого лица информации об устранении нарушений обязательных требов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"/>
          <p:cNvSpPr/>
          <p:nvPr/>
        </p:nvSpPr>
        <p:spPr>
          <a:xfrm>
            <a:off x="349920" y="20048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од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"/>
          <p:cNvSpPr/>
          <p:nvPr/>
        </p:nvSpPr>
        <p:spPr>
          <a:xfrm>
            <a:off x="2157480" y="149220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вают документарные или выез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80E8-D287-46E7-81B5-1A46C02AD7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427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0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431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432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5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436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3"/>
          <p:cNvSpPr/>
          <p:nvPr/>
        </p:nvSpPr>
        <p:spPr>
          <a:xfrm>
            <a:off x="2096640" y="1036800"/>
            <a:ext cx="55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надзорные гидротехнические соору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19080" y="1549440"/>
            <a:ext cx="49338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ехнадзору поднадзорно 23113 ГТ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66 - ГТС объектов промыш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31 - ГТС объектов энерге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916 - ГТС водохозяйственного на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 класса    - 150 ГТ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 класса  - 287 ГТ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I  класса – 4823 ГТ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V класса  - 17 853 ГТ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льный – 4328 ГТ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женный – 8109 ГТ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удовлетворительный - 7688 ГТ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асный - 2988 ГТ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7"/>
          <p:cNvSpPr/>
          <p:nvPr/>
        </p:nvSpPr>
        <p:spPr>
          <a:xfrm>
            <a:off x="4952880" y="1549440"/>
            <a:ext cx="475956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кскому управлению  поднадзорно 953 ГТ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9 - ГТС объектов промыш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 - ГТС объектов энерге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90 - ГТС водохозяйственного на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 класса    - 0 ГТ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  класса  - 9 ГТ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I  класса – 863 ГТ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V класса  - 81 ГТ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льный – 37 ГТ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женный – 325 ГТ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удовлетворительный - 564 ГТ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асный - 27 ГТ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5761-04B8-4DD1-A11D-71869BA6B1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442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5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446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447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0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451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"/>
          <p:cNvSpPr/>
          <p:nvPr/>
        </p:nvSpPr>
        <p:spPr>
          <a:xfrm>
            <a:off x="1004760" y="9079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ы контрольной(надзорной) деятельности в области безопасности гидротехнических сооруж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4"/>
          <p:cNvSpPr/>
          <p:nvPr/>
        </p:nvSpPr>
        <p:spPr>
          <a:xfrm>
            <a:off x="736920" y="6094440"/>
            <a:ext cx="77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6 проверок, запланированных на 2022год отменено по ПП РФ №3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Объект 6"/>
          <p:cNvGraphicFramePr/>
          <p:nvPr/>
        </p:nvGraphicFramePr>
        <p:xfrm>
          <a:off x="1065240" y="1579680"/>
          <a:ext cx="6400800" cy="451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5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5240" y="1579680"/>
                    <a:ext cx="640080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08F7-B98D-4BC2-BC19-72B44C88C6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458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1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463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6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3"/>
          <p:cNvSpPr/>
          <p:nvPr/>
        </p:nvSpPr>
        <p:spPr>
          <a:xfrm>
            <a:off x="938880" y="1025640"/>
            <a:ext cx="767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наложенных административных штрафов по стать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3"/>
          <a:stretch/>
        </p:blipFill>
        <p:spPr>
          <a:xfrm>
            <a:off x="1371600" y="1628640"/>
            <a:ext cx="6883560" cy="4297320"/>
          </a:xfrm>
          <a:prstGeom prst="rect">
            <a:avLst/>
          </a:prstGeom>
          <a:ln w="0">
            <a:noFill/>
          </a:ln>
        </p:spPr>
      </p:pic>
      <p:sp>
        <p:nvSpPr>
          <p:cNvPr id="470" name="TextBox 1"/>
          <p:cNvSpPr/>
          <p:nvPr/>
        </p:nvSpPr>
        <p:spPr>
          <a:xfrm>
            <a:off x="272880" y="5921280"/>
            <a:ext cx="87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 административных штрафов были оплачены досрочно с 50% скид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129A-8BA1-49D0-81CA-CF1D7A8C54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473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6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477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478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1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482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"/>
          <p:cNvSpPr/>
          <p:nvPr/>
        </p:nvSpPr>
        <p:spPr>
          <a:xfrm>
            <a:off x="312840" y="966960"/>
            <a:ext cx="92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ые и массовые нарушения обязательных требований выявляемые при  осуществлении надзора за безопасностью ГТ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3"/>
          <p:cNvSpPr/>
          <p:nvPr/>
        </p:nvSpPr>
        <p:spPr>
          <a:xfrm>
            <a:off x="488880" y="1682640"/>
            <a:ext cx="9104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блюдаются обязательные требования при эксплуатации ГТС, а также их техническое обслуживание и текущий ремо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звивается системы контроля за состоянием ГТ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беспечивается контроль (мониторинг) за показателями состояния ГТ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беспечивается разработка и своевременное уточнение правил эксплуатации ГТ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ует квалифицированная служба эксплуатации ГТ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ует финансирование мероприятий по эксплуатации ГТС и обеспечению его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уществляется капитальный ремонт, реконструкция, консервация и ликвидация ГТ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зрабатывается декларация безопасности ГТ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беспечивается внесение в Регистр сведений о ГТ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ует финансовое обеспечение гражданской ответственности в случае возмещения вреда, причиненного в результате аварии ГТ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уществляется страхование гражданской ответственности за причинение вреда в результате аварии на опасном объе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1B02-456A-4C63-B4AF-CDC41AD903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487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0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491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492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5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496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1"/>
          <p:cNvSpPr/>
          <p:nvPr/>
        </p:nvSpPr>
        <p:spPr>
          <a:xfrm>
            <a:off x="849240" y="98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 и проведение мероприятий направленных на профилактику нарушений обязательных требо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2"/>
          <p:cNvSpPr/>
          <p:nvPr/>
        </p:nvSpPr>
        <p:spPr>
          <a:xfrm>
            <a:off x="415800" y="3500280"/>
            <a:ext cx="792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о 2 информирования поднадзорных субъектов и гражда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о 1074 информационных писем об обстоятельствах и причинах аварий и несчастных случа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но 192 консультаций, из 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9 разъяснений по обязательным требованиям, оценка соблюдения которых осуществляется в рамках государственного надзо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3 разъяснений регламентирующих порядок осуществления государственного 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ано 41 предостереж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3"/>
          <p:cNvSpPr/>
          <p:nvPr/>
        </p:nvSpPr>
        <p:spPr>
          <a:xfrm>
            <a:off x="631800" y="1623960"/>
            <a:ext cx="810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айте Управления в разделе «Безопасность гидротехнических сооружений» размеще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 перечень ГТС, поднадзорных Приокскому упр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каторы риска нарушения обязательных треб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проверочного л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 план-график консульт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8EA5-1D00-4B68-AB54-0C5A397814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502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5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506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507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511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"/>
          <p:cNvSpPr/>
          <p:nvPr/>
        </p:nvSpPr>
        <p:spPr>
          <a:xfrm>
            <a:off x="1319040" y="971640"/>
            <a:ext cx="72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принимаемых мерах по выявлению бесхозяйных о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Объект 8"/>
          <p:cNvGraphicFramePr/>
          <p:nvPr/>
        </p:nvGraphicFramePr>
        <p:xfrm>
          <a:off x="2035080" y="4459320"/>
          <a:ext cx="6220080" cy="20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Объект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35080" y="4459320"/>
                    <a:ext cx="622008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Объект 9"/>
          <p:cNvGraphicFramePr/>
          <p:nvPr/>
        </p:nvGraphicFramePr>
        <p:xfrm>
          <a:off x="1952640" y="1343160"/>
          <a:ext cx="6791400" cy="296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6" name="Объект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52640" y="1343160"/>
                    <a:ext cx="6791400" cy="29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5D6D-08E9-49AF-A781-E579279DD5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519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2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523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524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7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528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"/>
          <p:cNvSpPr/>
          <p:nvPr/>
        </p:nvSpPr>
        <p:spPr>
          <a:xfrm>
            <a:off x="1319040" y="971640"/>
            <a:ext cx="72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принимаемых мерах по выявлению бесхозяйных о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Объект 2"/>
          <p:cNvGraphicFramePr/>
          <p:nvPr/>
        </p:nvGraphicFramePr>
        <p:xfrm>
          <a:off x="685800" y="1484280"/>
          <a:ext cx="8534520" cy="395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484280"/>
                    <a:ext cx="85345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Box 3"/>
          <p:cNvSpPr/>
          <p:nvPr/>
        </p:nvSpPr>
        <p:spPr>
          <a:xfrm>
            <a:off x="724680" y="548640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сооружения поставлены на учет в Росреест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"/>
          <p:cNvSpPr/>
          <p:nvPr/>
        </p:nvSpPr>
        <p:spPr>
          <a:xfrm>
            <a:off x="691560" y="574524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ы обследования бесхозяйных ГТ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5"/>
          <p:cNvSpPr/>
          <p:nvPr/>
        </p:nvSpPr>
        <p:spPr>
          <a:xfrm>
            <a:off x="716760" y="6113520"/>
            <a:ext cx="756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ан комплекс мероприятий по обеспечению их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7"/>
          <p:cNvSpPr/>
          <p:nvPr/>
        </p:nvSpPr>
        <p:spPr>
          <a:xfrm>
            <a:off x="741240" y="4941720"/>
            <a:ext cx="84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ы в результате ликвидации юридических лиц и ИП, а также брошены физическими лиц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F869-F70A-4246-BCFB-86AA1118A0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66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71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60440" y="907920"/>
            <a:ext cx="8915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0440" y="1341360"/>
            <a:ext cx="90234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является территориальным органом Ростехнадзором, осуществляет свою деятельность на территории Тульской, Калужской, Орловской, Рязанской и Брянской обла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352440" y="2336760"/>
            <a:ext cx="837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атная численность государственных гражданских служа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8643960" y="2286000"/>
            <a:ext cx="8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289240" y="377496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 отделов осуществляют надзорные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519120" y="414324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янская обл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519120" y="45133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уж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503280" y="486576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л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457200" y="5234040"/>
            <a:ext cx="23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язан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414360" y="5562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ль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5745240" y="4165560"/>
            <a:ext cx="11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отд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5705640" y="451332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отд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5695920" y="48830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4"/>
          <p:cNvSpPr/>
          <p:nvPr/>
        </p:nvSpPr>
        <p:spPr>
          <a:xfrm>
            <a:off x="5691240" y="5186520"/>
            <a:ext cx="11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отд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5"/>
          <p:cNvSpPr/>
          <p:nvPr/>
        </p:nvSpPr>
        <p:spPr>
          <a:xfrm>
            <a:off x="5670720" y="5562720"/>
            <a:ext cx="14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отде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446040" y="6040440"/>
            <a:ext cx="890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отделов выполняют обеспечивающие и лицензионно-разрешительные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728880" y="340524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о 21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328680" y="2705040"/>
            <a:ext cx="75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ужащие осуществляющие деятельность по профессиям рабоч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7"/>
          <p:cNvSpPr/>
          <p:nvPr/>
        </p:nvSpPr>
        <p:spPr>
          <a:xfrm>
            <a:off x="8643960" y="265572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8"/>
          <p:cNvSpPr/>
          <p:nvPr/>
        </p:nvSpPr>
        <p:spPr>
          <a:xfrm>
            <a:off x="352440" y="3035160"/>
            <a:ext cx="71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ники не отнесенные к государственной служ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8651880" y="3041640"/>
            <a:ext cx="4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249B-C442-48A1-92C4-1A741C7288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538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1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542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543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6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547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488880" y="981000"/>
            <a:ext cx="8915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язательное страхование ГТ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4376880" y="1628640"/>
            <a:ext cx="53211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ответствии с Федеральным законом от 27.07.2010 № 225-ФЗ внесенные в Регистр ГТС подлежат обязательному страхова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страховой суммы зависит от величины возможного ущерба и от числа пострадавших в результате аварии ГТ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ая страховая сумма  10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имость страхового полиса 24 тыс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штрафа за отсутствие договора страх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олжностных лиц 15-20 тыс. ру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юридических лиц 300-500 тыс. ру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0" descr="Вид на водосбросное сооружение"/>
          <p:cNvPicPr/>
          <p:nvPr/>
        </p:nvPicPr>
        <p:blipFill>
          <a:blip r:embed="rId3"/>
          <a:stretch/>
        </p:blipFill>
        <p:spPr>
          <a:xfrm>
            <a:off x="344520" y="213372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551" name="TextBox 1"/>
          <p:cNvSpPr/>
          <p:nvPr/>
        </p:nvSpPr>
        <p:spPr>
          <a:xfrm>
            <a:off x="415800" y="544500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ахователь обязан в течение пяти рабочих дней со дня заключения или изменения договора обязательного страхования направлять его копию в орган надз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ADA2-B600-43E4-A630-F0A6A5C52E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554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7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558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559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2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563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2"/>
          <p:cNvSpPr/>
          <p:nvPr/>
        </p:nvSpPr>
        <p:spPr>
          <a:xfrm>
            <a:off x="905760" y="949320"/>
            <a:ext cx="74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я и прохождение половодья (паводков) в 2022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3"/>
          <p:cNvSpPr/>
          <p:nvPr/>
        </p:nvSpPr>
        <p:spPr>
          <a:xfrm>
            <a:off x="312840" y="1557360"/>
            <a:ext cx="928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Ростехнадзора от 29 декабря 2021 г. № 471 «О безопасной эксплуатации и работоспособности гидротехнических сооружений, поднадзорных Федеральной службе по экологическому, технологическому и атомному надзору, в период весеннего половодья и паводков 2022 г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4"/>
          <p:cNvSpPr/>
          <p:nvPr/>
        </p:nvSpPr>
        <p:spPr>
          <a:xfrm>
            <a:off x="325440" y="3284640"/>
            <a:ext cx="86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ы консультации и даны рекомендации владельцам ГТС по вопросу пропуска паводковых вод при эксплуатации  ГТ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"/>
          <p:cNvSpPr/>
          <p:nvPr/>
        </p:nvSpPr>
        <p:spPr>
          <a:xfrm>
            <a:off x="317520" y="2776680"/>
            <a:ext cx="919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ы обследования  более 100 ГТ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2"/>
          <p:cNvSpPr/>
          <p:nvPr/>
        </p:nvSpPr>
        <p:spPr>
          <a:xfrm>
            <a:off x="331920" y="4005360"/>
            <a:ext cx="909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ходе обследований выявле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уют декларации безопасности ГТ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уют правила эксплуатации ГТ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дения о ГТС не внесены в Регист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уют договоры на оказание услуг по эксплуатации ГТС (отсутствие эксплуатирующей организаци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уют аттестованные специалисты эксплуатирующие  ГТ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3"/>
          <p:cNvSpPr/>
          <p:nvPr/>
        </p:nvSpPr>
        <p:spPr>
          <a:xfrm>
            <a:off x="946800" y="6242040"/>
            <a:ext cx="61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водок пройден чрезвычайных ситуаций не допущ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F575-D265-47FC-AE04-00C175ABAA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572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5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576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577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0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581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2"/>
          <p:cNvSpPr/>
          <p:nvPr/>
        </p:nvSpPr>
        <p:spPr>
          <a:xfrm>
            <a:off x="704880" y="92232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государственной услуги по утверждению деклараций безопасности гидротехнических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4"/>
          <p:cNvSpPr/>
          <p:nvPr/>
        </p:nvSpPr>
        <p:spPr>
          <a:xfrm>
            <a:off x="376200" y="162864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Федеральной службы по экологическому, технологическому и атомному надзору от 12 августа 2015 года N 312 «Об утверждении Административного регламента Федеральной службы по экологическому, технологическому и атомному надзору по предоставлению государственной услуги по утверждению деклараций безопасности поднадзорных гидротехнических сооружений, находящихся в эксплуат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Объект 1"/>
          <p:cNvGraphicFramePr/>
          <p:nvPr/>
        </p:nvGraphicFramePr>
        <p:xfrm>
          <a:off x="1928880" y="4664160"/>
          <a:ext cx="5089320" cy="18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Объект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8880" y="4664160"/>
                    <a:ext cx="508932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TextBox 2"/>
          <p:cNvSpPr/>
          <p:nvPr/>
        </p:nvSpPr>
        <p:spPr>
          <a:xfrm>
            <a:off x="325440" y="3500280"/>
            <a:ext cx="914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становление Правительства Российской Федерации от 12 марта 2022 г. № 353 «Об особенностях разрешительной деятельности в Российской Федер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2022 год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9AB9-364C-476A-B7CA-E1D507E766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589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2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594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7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598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2"/>
          <p:cNvSpPr/>
          <p:nvPr/>
        </p:nvSpPr>
        <p:spPr>
          <a:xfrm>
            <a:off x="839880" y="1052640"/>
            <a:ext cx="85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государственной услуги по выдаче разрешений на эксплуатацию гидротехнических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3"/>
          <p:cNvSpPr/>
          <p:nvPr/>
        </p:nvSpPr>
        <p:spPr>
          <a:xfrm>
            <a:off x="352440" y="1730520"/>
            <a:ext cx="905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Федеральной службы по экологическому, технологическому и атомному надзору от 2 октября 2015 года N 394 «Об утверждении Административного регламента Федеральной службы по экологическому, технологическому и атомному надзору по предоставлению государственной услуги по выдаче разрешений на эксплуатацию гидротехнических сооружений (за исключением судоходных и портовых гидротехнических сооружений)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1"/>
          <p:cNvSpPr/>
          <p:nvPr/>
        </p:nvSpPr>
        <p:spPr>
          <a:xfrm>
            <a:off x="428760" y="4222800"/>
            <a:ext cx="904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становление Правительства Российской Федерации от 12 марта 2022 г. № 353 «Об особенностях разрешительной деятельности в Российской Федер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2022 год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Объект 2"/>
          <p:cNvGraphicFramePr/>
          <p:nvPr/>
        </p:nvGraphicFramePr>
        <p:xfrm>
          <a:off x="2203560" y="5207040"/>
          <a:ext cx="489564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3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3560" y="5207040"/>
                    <a:ext cx="489564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TextBox 3"/>
          <p:cNvSpPr/>
          <p:nvPr/>
        </p:nvSpPr>
        <p:spPr>
          <a:xfrm>
            <a:off x="596880" y="3573360"/>
            <a:ext cx="87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выдачу разрешения на эксплуатацию гидротехнических сооружений уплачивается государственная пошлина в сумме 3500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61B0-903E-4783-BCF4-A5232E66F9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607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0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611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612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5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616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2"/>
          <p:cNvSpPr/>
          <p:nvPr/>
        </p:nvSpPr>
        <p:spPr>
          <a:xfrm>
            <a:off x="307800" y="947880"/>
            <a:ext cx="92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государственной услуги по согласованию правил эксплуатации гидротехнических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14"/>
          <p:cNvSpPr/>
          <p:nvPr/>
        </p:nvSpPr>
        <p:spPr>
          <a:xfrm>
            <a:off x="352440" y="1619280"/>
            <a:ext cx="905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Федеральной службы по экологическому, технологическому и атомному надзору от 3 ноября 2015 года N 447 «Об утверждении Административного регламента Федеральной службы по экологическому, технологическому и атомному надзору по предоставлению государственной услуги по согласованию правил эксплуатации гидротехнических сооружений (за исключением судоходных и портовых гидротехнических сооружений)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3"/>
          <p:cNvSpPr/>
          <p:nvPr/>
        </p:nvSpPr>
        <p:spPr>
          <a:xfrm>
            <a:off x="352440" y="3384720"/>
            <a:ext cx="90709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становление Правительства Российской Федерации от 12 марта 2022 г. № 353 «Об особенностях разрешительной деятельности в Российской Федер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2022 год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Объект 1"/>
          <p:cNvGraphicFramePr/>
          <p:nvPr/>
        </p:nvGraphicFramePr>
        <p:xfrm>
          <a:off x="2000160" y="4581360"/>
          <a:ext cx="489600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1" name="Объект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0160" y="4581360"/>
                    <a:ext cx="48960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EFB3-01EB-4BFE-8E6D-ACB2FB40E6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624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7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628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629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2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633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2"/>
          <p:cNvSpPr/>
          <p:nvPr/>
        </p:nvSpPr>
        <p:spPr>
          <a:xfrm>
            <a:off x="281160" y="1268280"/>
            <a:ext cx="92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е услуги оказываемые Ростехнадзор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2"/>
          <p:cNvSpPr/>
          <p:nvPr/>
        </p:nvSpPr>
        <p:spPr>
          <a:xfrm>
            <a:off x="539640" y="1967040"/>
            <a:ext cx="83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ударственная услуга по представлению сведений из Российского регистра гидротехнических сооруж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явителями в рамках предоставления государственной услуги являются собственник ГТС или эксплуатирующая организ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имания государственной пошлины или иной платы за предоставление государственной услуги не предусмотр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3"/>
          <p:cNvSpPr/>
          <p:nvPr/>
        </p:nvSpPr>
        <p:spPr>
          <a:xfrm>
            <a:off x="514440" y="4437000"/>
            <a:ext cx="8591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ударственная услуга по определению экспертных цен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явителем может быть юридическое лицо, претендующее на проведение государственной экспертизы деклараций безопасности гидротехнических соору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8ABA-D213-42FC-80BC-7CC3928F20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639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2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643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644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7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648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2"/>
          <p:cNvSpPr/>
          <p:nvPr/>
        </p:nvSpPr>
        <p:spPr>
          <a:xfrm>
            <a:off x="3464640" y="97164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арийность и травма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3"/>
          <p:cNvSpPr/>
          <p:nvPr/>
        </p:nvSpPr>
        <p:spPr>
          <a:xfrm>
            <a:off x="352440" y="1349280"/>
            <a:ext cx="919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м показателем осуществления надзорной деятельности является уровень аварийности и смертельного травматизма на поднадзорных организац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5"/>
          <p:cNvSpPr/>
          <p:nvPr/>
        </p:nvSpPr>
        <p:spPr>
          <a:xfrm>
            <a:off x="415800" y="2205000"/>
            <a:ext cx="92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днадзорных Приокскому управлению гидротехнических сооружениях в 2022году случаев аварии и травматизма не зафиксирова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7"/>
          <p:cNvSpPr/>
          <p:nvPr/>
        </p:nvSpPr>
        <p:spPr>
          <a:xfrm>
            <a:off x="297000" y="2997360"/>
            <a:ext cx="916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авария на ГТС была в  Тульской области собственник нарушил нормы и правила при эксплуатации ГТС, что привело к ава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тогам расследования Управлением все виновные лица были привлечены к административной ответств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8"/>
          <p:cNvSpPr/>
          <p:nvPr/>
        </p:nvSpPr>
        <p:spPr>
          <a:xfrm>
            <a:off x="198360" y="4941720"/>
            <a:ext cx="91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иду отсутствия у владельца ГТС полиса страхования ответственности все затраты по возмещению причиненного ущерба в результате аварии на ГТС были возложены на н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15440" y="5490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41" descr="fsetan_emblema2007"/>
          <p:cNvPicPr/>
          <p:nvPr/>
        </p:nvPicPr>
        <p:blipFill>
          <a:blip r:embed="rId1"/>
          <a:stretch/>
        </p:blipFill>
        <p:spPr>
          <a:xfrm>
            <a:off x="3584520" y="1700280"/>
            <a:ext cx="26924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DFD4-3FAD-4711-B786-54262E1A92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99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104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60440" y="907920"/>
            <a:ext cx="8915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номо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417600" y="1341360"/>
            <a:ext cx="928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троль и надзор в области промышленной безопасности, безопасности в электроэнергетике, при пользовании недрами, при ведении взрывных работ, за безопасной эксплуатацией ГТ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460440" y="2205000"/>
            <a:ext cx="928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троль и надзор за горноспасательными работами, за хранением и применением взрывчатых материалов промышленного назначения, соблюдением требований при строительстве, эксплуатации, транспортировке, консервации и ликвидации опасных производственных объектов и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436680" y="3405240"/>
            <a:ext cx="92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рганизация и проведение проверок в процессе строительства, реконструкции, капремонта объектов, отнесённых к компетенции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417600" y="4044960"/>
            <a:ext cx="91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лицензирование в установленной сфере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334800" y="4297320"/>
            <a:ext cx="916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ение и регистрация заключений экспертизы промышленной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ерждение  деклараций безопасности поднадзорных ГТ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374760" y="5219640"/>
            <a:ext cx="93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дача разрешений на эксплуатацию гидротехнических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455040" y="5589720"/>
            <a:ext cx="57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аттестация персонала поднадзорных 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392040" y="5934240"/>
            <a:ext cx="89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блюдение требований законодательства Российской Федерации в иных видах деятельности, отнесенных к компетенции Ростехнадз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042D-439E-43AF-ADCE-8D1F70B719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120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125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460440" y="907920"/>
            <a:ext cx="8915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одный рейтинг территориальных управл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показателям контрольной (надзорной) деятельности за 2022 г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в сравнении с 2021 годо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1200" y="1906560"/>
          <a:ext cx="7920000" cy="4518000"/>
        </p:xfrm>
        <a:graphic>
          <a:graphicData uri="http://schemas.openxmlformats.org/drawingml/2006/table">
            <a:tbl>
              <a:tblPr/>
              <a:tblGrid>
                <a:gridCol w="2160360"/>
                <a:gridCol w="900360"/>
                <a:gridCol w="900000"/>
                <a:gridCol w="2158920"/>
                <a:gridCol w="900000"/>
                <a:gridCol w="900360"/>
              </a:tblGrid>
              <a:tr h="903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аименование территориального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аименование территориального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</a:tr>
              <a:tr h="301680">
                <a:tc>
                  <a:txBody>
                    <a:bodyPr lIns="856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Центра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  <a:tc>
                  <a:txBody>
                    <a:bodyPr lIns="856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Енисей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</a:tr>
              <a:tr h="301680">
                <a:tc>
                  <a:txBody>
                    <a:bodyPr lIns="856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  <a:tc>
                  <a:txBody>
                    <a:bodyPr lIns="856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Лен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</a:tr>
              <a:tr h="299880">
                <a:tc>
                  <a:txBody>
                    <a:bodyPr lIns="856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редне-Поволж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  <a:tc>
                  <a:txBody>
                    <a:bodyPr lIns="856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олжско-Ок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</a:tr>
              <a:tr h="301680">
                <a:tc>
                  <a:txBody>
                    <a:bodyPr lIns="856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к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bdd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  <a:tc>
                  <a:txBody>
                    <a:bodyPr lIns="856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рым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</a:tr>
              <a:tr h="301680">
                <a:tc>
                  <a:txBody>
                    <a:bodyPr lIns="856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ижне-Волж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  <a:tc>
                  <a:txBody>
                    <a:bodyPr lIns="856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ахалин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</a:tr>
              <a:tr h="301680">
                <a:tc>
                  <a:txBody>
                    <a:bodyPr lIns="856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иволж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  <a:tc>
                  <a:txBody>
                    <a:bodyPr lIns="856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еверо-Запад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</a:tr>
              <a:tr h="299880">
                <a:tc>
                  <a:txBody>
                    <a:bodyPr lIns="856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еверо-Восточ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  <a:tc>
                  <a:txBody>
                    <a:bodyPr lIns="856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ападно-Ураль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</a:tr>
              <a:tr h="301680">
                <a:tc>
                  <a:txBody>
                    <a:bodyPr lIns="856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раль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  <a:tc>
                  <a:txBody>
                    <a:bodyPr lIns="856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еверо-Ураль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</a:tr>
              <a:tr h="301680">
                <a:tc>
                  <a:txBody>
                    <a:bodyPr lIns="856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ибир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  <a:tc>
                  <a:txBody>
                    <a:bodyPr lIns="856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абайкаль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</a:tr>
              <a:tr h="301680">
                <a:tc>
                  <a:txBody>
                    <a:bodyPr lIns="856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еверо-Кавказ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  <a:tc>
                  <a:txBody>
                    <a:bodyPr lIns="856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альневосточ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</a:tr>
              <a:tr h="299880">
                <a:tc>
                  <a:txBody>
                    <a:bodyPr lIns="856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ерхне-Дон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  <a:tc>
                  <a:txBody>
                    <a:bodyPr lIns="856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авказ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</a:tr>
              <a:tr h="301680">
                <a:tc>
                  <a:txBody>
                    <a:bodyPr lIns="856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ечор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f0fa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9e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C209-9DEC-466A-A90D-6360FECF08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134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139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349200" y="1395360"/>
            <a:ext cx="8915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ели для оценки рейтин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455760" y="1760400"/>
            <a:ext cx="9177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ровень аварийности» – доля поднадзорных объектов, на которых произошли аварии (происшествия), в общем количестве поднадзорных 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«Уровень травматизма» – доля поднадзорных объектов, на которых произошли несчастные случаи со смертельным исходом, в общем количестве поднадзорных 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«Отношение количества проведённых проверок к общему количеству поднадзорных объектов» – доля поднадзорных объектов, в отношении которых проведены проверки, в общем количестве поднадзорных 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«Выявляемость нарушений» – доля проведённых проверок поднадзорных объектов, в ходе которых были выявлены нарушения, в общем количестве проведенных проверок поднадзорных 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«Нагрузка на инспектора» – среднее количество проведенных проверок поднадзорных объектов за отчетный период одним инспект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076840" y="971640"/>
            <a:ext cx="57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дный рейтинг территориальных упр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B3AE-6B34-46DA-AB75-4FD67D7E08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149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154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460440" y="907920"/>
            <a:ext cx="8915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ирование надзор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560520" y="159876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ланировано на 2022 год  2414 плановых прове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446040" y="2122560"/>
            <a:ext cx="75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верок юридических лиц и индивидуальных предпринимателей, согласованных Управлением Генеральной прокуратуры Российской Федерации в Центральном федеральном окру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8148600" y="226044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07 провер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446040" y="3213000"/>
            <a:ext cx="73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верок органов местного самоуправления, согласованных органами прокуратуры субъекто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5"/>
          <p:cNvSpPr/>
          <p:nvPr/>
        </p:nvSpPr>
        <p:spPr>
          <a:xfrm>
            <a:off x="8218440" y="3213000"/>
            <a:ext cx="12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7 провер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314720" y="4040280"/>
            <a:ext cx="700380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от 10 марта 2022 года N 3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0"/>
          <p:cNvSpPr/>
          <p:nvPr/>
        </p:nvSpPr>
        <p:spPr>
          <a:xfrm>
            <a:off x="330120" y="4581360"/>
            <a:ext cx="897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о 14 марта 2022 года все попавшие под мораторий проверки отменены разом в трехдневный с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1"/>
          <p:cNvSpPr/>
          <p:nvPr/>
        </p:nvSpPr>
        <p:spPr>
          <a:xfrm>
            <a:off x="352440" y="5216400"/>
            <a:ext cx="87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 завершенные на 10 марта 2022 года проверки, попавшие под мораторий, завершены до 18 марта 202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3"/>
          <p:cNvSpPr/>
          <p:nvPr/>
        </p:nvSpPr>
        <p:spPr>
          <a:xfrm>
            <a:off x="411120" y="5888160"/>
            <a:ext cx="86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ого в 2022году из 2414 запланированных проверок проведено 5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BD41-53C3-4234-89A7-95DDC700E0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171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176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"/>
          <p:cNvSpPr/>
          <p:nvPr/>
        </p:nvSpPr>
        <p:spPr>
          <a:xfrm>
            <a:off x="2961720" y="950760"/>
            <a:ext cx="568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затели надзорной деятельности за 2022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25600" y="1319040"/>
          <a:ext cx="9107280" cy="5081760"/>
        </p:xfrm>
        <a:graphic>
          <a:graphicData uri="http://schemas.openxmlformats.org/drawingml/2006/table">
            <a:tbl>
              <a:tblPr/>
              <a:tblGrid>
                <a:gridCol w="1547640"/>
                <a:gridCol w="787320"/>
                <a:gridCol w="922320"/>
                <a:gridCol w="987480"/>
                <a:gridCol w="987480"/>
                <a:gridCol w="798480"/>
                <a:gridCol w="771480"/>
                <a:gridCol w="987480"/>
                <a:gridCol w="538200"/>
                <a:gridCol w="779400"/>
              </a:tblGrid>
              <a:tr h="113688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над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 прове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х прове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плановых прове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жено штраф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штрафов тыс. 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ста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но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упре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е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</a:tr>
              <a:tr h="73656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 области промышленной безопас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8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</a:tr>
              <a:tr h="49068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етический надз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2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</a:tr>
              <a:tr h="98100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 области безопасности гидротехнических сооруж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</a:tr>
              <a:tr h="49032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ельный надз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</a:tr>
              <a:tr h="98136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зор за саморегулируемыми организац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</a:tr>
              <a:tr h="26496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9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омер слайда 6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8D95-3CD7-4B4C-A875-E38FB90AAF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185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Picture 41" descr="fsetan_emblema2007"/>
          <p:cNvPicPr/>
          <p:nvPr/>
        </p:nvPicPr>
        <p:blipFill>
          <a:blip r:embed="rId1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9"/>
          <p:cNvGrpSpPr/>
          <p:nvPr/>
        </p:nvGrpSpPr>
        <p:grpSpPr>
          <a:xfrm>
            <a:off x="0" y="404640"/>
            <a:ext cx="9905760" cy="502920"/>
            <a:chOff x="0" y="404640"/>
            <a:chExt cx="9905760" cy="502920"/>
          </a:xfrm>
        </p:grpSpPr>
        <p:sp>
          <p:nvSpPr>
            <p:cNvPr id="190" name="Rectangle 10"/>
            <p:cNvSpPr/>
            <p:nvPr/>
          </p:nvSpPr>
          <p:spPr>
            <a:xfrm>
              <a:off x="0" y="404640"/>
              <a:ext cx="9905760" cy="167760"/>
            </a:xfrm>
            <a:prstGeom prst="rect">
              <a:avLst/>
            </a:prstGeom>
            <a:solidFill>
              <a:srgbClr val="eaea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>
              <a:off x="0" y="572400"/>
              <a:ext cx="9905760" cy="167760"/>
            </a:xfrm>
            <a:prstGeom prst="rect">
              <a:avLst/>
            </a:prstGeom>
            <a:solidFill>
              <a:srgbClr val="0066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2"/>
            <p:cNvSpPr/>
            <p:nvPr/>
          </p:nvSpPr>
          <p:spPr>
            <a:xfrm>
              <a:off x="0" y="736200"/>
              <a:ext cx="9905760" cy="171360"/>
            </a:xfrm>
            <a:prstGeom prst="rect">
              <a:avLst/>
            </a:prstGeom>
            <a:solidFill>
              <a:srgbClr val="ff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41" descr="fsetan_emblema2007"/>
          <p:cNvPicPr/>
          <p:nvPr/>
        </p:nvPicPr>
        <p:blipFill>
          <a:blip r:embed="rId2"/>
          <a:stretch/>
        </p:blipFill>
        <p:spPr>
          <a:xfrm>
            <a:off x="0" y="115920"/>
            <a:ext cx="704880" cy="7920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"/>
          <p:cNvSpPr/>
          <p:nvPr/>
        </p:nvSpPr>
        <p:spPr>
          <a:xfrm>
            <a:off x="920880" y="11592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КСКОЕ УПРАВЛЕНИЕ РОСТЕХ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"/>
          <p:cNvSpPr/>
          <p:nvPr/>
        </p:nvSpPr>
        <p:spPr>
          <a:xfrm>
            <a:off x="2959560" y="950760"/>
            <a:ext cx="442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затели надзор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920880" y="4815000"/>
          <a:ext cx="7416720" cy="1879560"/>
        </p:xfrm>
        <a:graphic>
          <a:graphicData uri="http://schemas.openxmlformats.org/drawingml/2006/table">
            <a:tbl>
              <a:tblPr/>
              <a:tblGrid>
                <a:gridCol w="4263840"/>
                <a:gridCol w="1460520"/>
                <a:gridCol w="169236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раф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штрафа, тыс.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46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19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остановлении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прежд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ере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TextBox 5"/>
          <p:cNvSpPr/>
          <p:nvPr/>
        </p:nvSpPr>
        <p:spPr>
          <a:xfrm>
            <a:off x="476280" y="1328760"/>
            <a:ext cx="90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26.03.2022  № 70-ФЗ «О внесении изменений в Кодекс Российской Федерации об административных правонарушения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упил в силу 06 апреля 202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266760" y="2235240"/>
            <a:ext cx="929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юридическое лицо не подлежит административной ответственности если его работники уже привлечены за данное правонару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8"/>
          <p:cNvSpPr/>
          <p:nvPr/>
        </p:nvSpPr>
        <p:spPr>
          <a:xfrm>
            <a:off x="272880" y="2897280"/>
            <a:ext cx="98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амена административного штрафа на предуп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9"/>
          <p:cNvSpPr/>
          <p:nvPr/>
        </p:nvSpPr>
        <p:spPr>
          <a:xfrm>
            <a:off x="314280" y="3213000"/>
            <a:ext cx="892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начения административного штрафа социально ориентированным некоммерческим организациям и малым предприятиям как для 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341280" y="3732120"/>
            <a:ext cx="71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значение штрафа до половины максимального штраф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290520" y="4075200"/>
            <a:ext cx="930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а несколько административных правонарушений назначается наиболее строгое наказание, как за одно правонару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8:40:31Z</dcterms:created>
  <dc:creator>I.Krivenko</dc:creator>
  <dc:description/>
  <dc:language>en-US</dc:language>
  <cp:lastModifiedBy>User</cp:lastModifiedBy>
  <cp:lastPrinted>2023-03-24T10:16:16Z</cp:lastPrinted>
  <dcterms:modified xsi:type="dcterms:W3CDTF">2023-03-28T18:01:35Z</dcterms:modified>
  <cp:revision>338</cp:revision>
  <dc:subject/>
  <dc:title>Слайд 1</dc:title>
</cp:coreProperties>
</file>